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13A-292B-4B11-AB7B-B1956ED6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7E3-62C6-48F5-921A-275BA9C6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CCF-50D3-46E6-8EDC-971CA17C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0F1-0ADA-4A08-9B69-3987BD62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B237-6161-4D85-A9F8-48613BE4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66B6-0C1A-4EFF-8351-151D789A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1C1C-3CD6-4383-9AF8-7DAEACEB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7DF5-A1D0-4A79-8C14-28D55166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E9D6-B578-46B7-9773-D3EA18F5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A4DA-802C-4552-97E6-D609EF0E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4601-81D1-4186-A7D5-0C579D74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603-EBE6-4FA8-A7E2-94759ACB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BDF8-E08D-4D9F-8C05-5BB89DB7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0D1A-2159-4955-B938-43E82201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980A-993F-42D4-903D-2A6D0D08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2CAB-2413-4F96-B1EE-A2000230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A3CE-9C24-4519-AB3A-2765B9C5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57E-A3D3-48FE-A12C-55FEEE60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828-47B2-47DC-9D35-A2BA7EBE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A95-D2BB-4B1C-8A9C-E59DF284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729-E83C-4E0E-AB26-4BAC5AF4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18D-8661-4F07-80F1-310AF074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524-279A-48FD-B7DF-F641042E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2A6-0560-4A4A-AB54-24C0FE2F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915B-16BC-4851-A446-DEDAA28C8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3E10-46EE-4B42-9727-AAE475031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90720" y="475920"/>
            <a:ext cx="67816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 u="sng">
                <a:solidFill>
                  <a:srgbClr val="ffffff"/>
                </a:solidFill>
                <a:uFillTx/>
                <a:latin typeface="Comic Sans MS"/>
              </a:rPr>
              <a:t>Sioe G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ewn sioe gwn mae 196 o goesau a 126 o lygaid. Faint o bobl, a faint o gwn sydd yn y sio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00000" y="3068640"/>
            <a:ext cx="4176720" cy="2965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348000" y="3573360"/>
            <a:ext cx="511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ffffff"/>
                </a:solidFill>
                <a:latin typeface="Comic Sans MS"/>
              </a:rPr>
              <a:t>(Mae gan pob person a phob ci y nifer cywir o goesau a llygaid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0:13:08Z</dcterms:created>
  <dc:creator>Carwyn</dc:creator>
  <dc:description/>
  <dc:language>en-US</dc:language>
  <cp:lastModifiedBy>Carwyn</cp:lastModifiedBy>
  <dcterms:modified xsi:type="dcterms:W3CDTF">2008-12-02T20:20:29Z</dcterms:modified>
  <cp:revision>1</cp:revision>
  <dc:subject/>
  <dc:title>Slide 1</dc:title>
</cp:coreProperties>
</file>